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089-5D1A-404C-9D8D-A3F71F9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25C-E1D1-4974-B994-3EEA145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E47-3286-4103-93C0-236F9C96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E31-C3FE-4930-B9AD-8DB5AE4A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0574-62F9-44CB-9FBC-99C7FC86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BA25-919C-40A4-A30D-4573D5A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3292-A4C1-4159-B0D5-FD6E8A15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C4E-B9AC-4A04-8B41-A918BDD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E1AE-1399-4240-A228-5AF7E85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E9E-CDB2-4DC4-8C28-D1BB2348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F0D-4A37-4CDF-9E47-A55A930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73D-D2A6-443F-BE61-17C5A23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7CE-ABB3-444B-ACEB-BD52334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1C4-79CE-4AA2-9290-AC6215E7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2926-B899-4DF5-BD8D-1843342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F49C-3DD1-42D1-8098-C0575BF7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7572-44EA-4CCA-8ACF-E7E89AFC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1BE8-C01D-4B95-A4D7-B1C6FA2C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78A9-10A2-4B8A-8CC3-8EB2AD6C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F7DA-9EAA-447A-B4EE-BCF150E6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4A5B-B93F-4323-9099-95E5537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9E7A-508A-4E55-881E-0F110862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EA0-A464-45C3-8134-108EA19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8042-86BA-468B-B74B-FF1359B0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162B-D20A-4423-AD24-5D3CD97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16A5-908D-4BB0-891A-568D46AA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B145-4AE8-41BA-9F8A-B4D18C38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62DE-B6B6-4C75-9AC9-00B9F4B7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725F-345E-410C-8426-E82B1EB9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CC0C-A45A-456F-A767-C38E1849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386F-C909-4997-9227-BA9EE73F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3B9D-3387-4D9F-8637-152C160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B44C-DCAE-4D1F-BBCC-3DE53E9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351-60D7-4480-9CFD-249ECB8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D666-C407-4DCC-B6E1-2641591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CBB0-A083-42E5-90B5-5E65B564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453C-01B9-427B-96E7-761E2A4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712B-EAC9-4E70-989F-8DA7190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CB44-2495-4680-B8FE-A203015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D64E-106C-429C-AF0F-DC3266D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E69F-FA39-41C0-B7BF-846128AA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E050-C474-4AB3-BB6D-11A7819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4474-4A48-446A-BE3E-21FC7D0F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E104-9C46-4D34-9E68-B2CBBC2A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046-844C-4FB7-A56B-E75A126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1090-5938-4301-95D2-F1AD517C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E44B-C01A-481C-82FD-659DB04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86D0-C7CB-4DEF-814C-5E1AE3AF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7276-EC8F-4E65-B0B5-3FCDB6E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3BE8-147B-4ADF-A5D0-5943199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CF69-6288-4F33-811C-234548E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2AF4-306F-40E5-8EF6-0A79FE6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76DB-E2A7-4C10-9E01-B023B4F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EF6E-DD0F-480A-83EF-882D3A1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6CAA-4E1A-48A5-8FA5-FE63C9A4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584-3CA2-443A-9088-CF64183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E0B9-5B30-4F36-8364-010A3EA9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5138-3141-463B-8C4E-FAA9C7D6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DB96-7877-4009-A743-C2ED9DE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809F-3901-433A-9FA9-38C2ED4A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6738-A86B-4C60-A40F-C6ABDF2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EFE4-0695-47EA-A969-0CF1E3A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05AA-A26B-4737-8ED6-3699201A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68B62-96AB-4596-A171-5604BCA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F611-F950-4329-864C-6EE5D18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D10D-ABDD-463E-9034-5B6BDF1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B6C-4E5F-45EC-ADA9-82FF5C0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D36E7-A1AC-4C7A-A29C-E73BC753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E0E5-5EB0-4310-90B7-D3EC449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171D-BD86-49D6-94B5-CD90C40A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E8EE-97BB-4D86-8D63-C1319BBF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7DAFA-DD60-49E3-A6C6-BE920672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065ED-802B-4D12-8BCB-EC5F311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B5166-5434-4F82-A658-BCD2A5E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F424-216B-4272-97B8-32F3D7FE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FAAC-1931-4256-BC5C-0DADAD9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6745-1CAB-42DE-A952-1B34CFD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AFD-B50E-4AF3-AC23-07C3DA4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6C04-BB02-473D-AE29-8C9B0340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D6E0-5664-4040-BAA9-3907453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79AE-553A-46F2-8F16-CC5806B3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928E-6301-4E3B-AF81-5FF62346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6A5C-FDF3-426A-8003-14429BCA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1CC7-BC88-4640-8798-B82AB358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B397-A08D-45F2-8B1D-26F6DF9D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8768-B7D0-48E8-867C-EE44EC06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54E4-D204-4CC8-8022-8CC0C1D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053A-86F3-4D0E-97E2-69B27D1C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E15-D0CB-4C64-A27A-A3FBE53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AF9C-48E4-43F2-8DA7-213C88CE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D0EA-329D-4B03-99DA-CE31A32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1950-BBB9-4056-BC2E-D7614CC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36C17-C9AF-44E3-BB18-8AF061F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732B-3B07-4D77-A42B-DAF9834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8DD54-3F4F-48D2-913F-1DCBE7CC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E018-6D16-4418-BB2D-9AB8E796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816-929F-4A0C-BFA9-F04CF330FB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1BA2-A721-40FB-939E-8D0115D03C5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048-60D8-4847-AD40-CF20AD8F74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AA2-2B4B-4555-97AD-102A481340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7E1-2A99-4560-9CC7-3D75E94286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8B7-BF02-4F92-BF06-9C6414AABE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D6B-7B62-4A3B-A447-ABD8C53BBF2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95ED-26E6-4C65-B70F-186835192CC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589960" cy="295596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3" descr="ru18.jpg"/>
          <p:cNvPicPr/>
          <p:nvPr/>
        </p:nvPicPr>
        <p:blipFill>
          <a:blip r:embed="rId2"/>
          <a:stretch/>
        </p:blipFill>
        <p:spPr>
          <a:xfrm>
            <a:off x="285840" y="214200"/>
            <a:ext cx="8858160" cy="63579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1928880" y="642960"/>
            <a:ext cx="63579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9d1d3"/>
                </a:solidFill>
                <a:latin typeface="Franklin Gothic Medium"/>
              </a:rPr>
              <a:t>ЭКСПРЕССИОНИЗМ</a:t>
            </a:r>
            <a:r>
              <a:rPr b="1" lang="en-US" sz="4400" spc="-1" strike="noStrike">
                <a:solidFill>
                  <a:srgbClr val="f9d1d3"/>
                </a:solidFill>
                <a:latin typeface="Franklin Gothic Medium"/>
              </a:rPr>
              <a:t> </a:t>
            </a: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в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               </a:t>
            </a: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живописи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6643800" y="4714920"/>
            <a:ext cx="221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Выполнил ученик 10 А класса Русской гимназии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Шулепов А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Рисунок4.jpg"/>
          <p:cNvPicPr/>
          <p:nvPr/>
        </p:nvPicPr>
        <p:blipFill>
          <a:blip r:embed="rId2"/>
          <a:srcRect l="0" t="19906" r="0" b="19906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Рисунок5.jpg"/>
          <p:cNvPicPr/>
          <p:nvPr/>
        </p:nvPicPr>
        <p:blipFill>
          <a:blip r:embed="rId2"/>
          <a:srcRect l="0" t="22728" r="0" b="22728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Рисунок6.jpg"/>
          <p:cNvPicPr/>
          <p:nvPr/>
        </p:nvPicPr>
        <p:blipFill>
          <a:blip r:embed="rId2"/>
          <a:srcRect l="0" t="4922" r="0" b="4922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Рисунок7.jpg"/>
          <p:cNvPicPr/>
          <p:nvPr/>
        </p:nvPicPr>
        <p:blipFill>
          <a:blip r:embed="rId1"/>
          <a:stretch/>
        </p:blipFill>
        <p:spPr>
          <a:xfrm>
            <a:off x="285840" y="142920"/>
            <a:ext cx="2314440" cy="3548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Рисунок8.jpg"/>
          <p:cNvPicPr/>
          <p:nvPr/>
        </p:nvPicPr>
        <p:blipFill>
          <a:blip r:embed="rId2"/>
          <a:stretch/>
        </p:blipFill>
        <p:spPr>
          <a:xfrm>
            <a:off x="3214800" y="214200"/>
            <a:ext cx="2479680" cy="34768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Рисунок9.jpg"/>
          <p:cNvPicPr/>
          <p:nvPr/>
        </p:nvPicPr>
        <p:blipFill>
          <a:blip r:embed="rId3"/>
          <a:stretch/>
        </p:blipFill>
        <p:spPr>
          <a:xfrm>
            <a:off x="6072120" y="214200"/>
            <a:ext cx="2779920" cy="3468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1071720" y="4286160"/>
            <a:ext cx="714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d1d3"/>
                </a:solidFill>
                <a:latin typeface="Arial"/>
                <a:ea typeface="Arial"/>
              </a:rPr>
              <a:t>Эти произведения принадлежат 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7a8f"/>
                </a:solidFill>
                <a:latin typeface="Arial"/>
                <a:ea typeface="Arial"/>
              </a:rPr>
              <a:t>ЭКСПРЕССИОНИЗМУ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682560" y="133200"/>
            <a:ext cx="8120160" cy="1159200"/>
          </a:xfrm>
          <a:prstGeom prst="rect">
            <a:avLst/>
          </a:prstGeom>
          <a:ln w="0">
            <a:noFill/>
          </a:ln>
        </p:spPr>
      </p:pic>
      <p:pic>
        <p:nvPicPr>
          <p:cNvPr id="350" name="Подзаголовок 2" descr=""/>
          <p:cNvPicPr/>
          <p:nvPr/>
        </p:nvPicPr>
        <p:blipFill>
          <a:blip r:embed="rId2"/>
          <a:stretch/>
        </p:blipFill>
        <p:spPr>
          <a:xfrm>
            <a:off x="1274760" y="1274760"/>
            <a:ext cx="6735600" cy="4522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682560" y="-237960"/>
            <a:ext cx="7785000" cy="1742760"/>
          </a:xfrm>
          <a:prstGeom prst="rect">
            <a:avLst/>
          </a:prstGeom>
          <a:ln w="0">
            <a:noFill/>
          </a:ln>
        </p:spPr>
      </p:pic>
      <p:pic>
        <p:nvPicPr>
          <p:cNvPr id="352" name="Подзаголовок 2" descr=""/>
          <p:cNvPicPr/>
          <p:nvPr/>
        </p:nvPicPr>
        <p:blipFill>
          <a:blip r:embed="rId2"/>
          <a:stretch/>
        </p:blipFill>
        <p:spPr>
          <a:xfrm>
            <a:off x="1212840" y="1011240"/>
            <a:ext cx="6656400" cy="4633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42560" cy="1920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Авангард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Барокк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Классиц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Сюрреал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Экспрессионизм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и т.д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8236080" cy="1871640"/>
          </a:xfrm>
          <a:prstGeom prst="rect">
            <a:avLst/>
          </a:prstGeom>
          <a:ln w="0">
            <a:noFill/>
          </a:ln>
        </p:spPr>
      </p:pic>
      <p:pic>
        <p:nvPicPr>
          <p:cNvPr id="356" name="Подзаголовок 2" descr=""/>
          <p:cNvPicPr/>
          <p:nvPr/>
        </p:nvPicPr>
        <p:blipFill>
          <a:blip r:embed="rId2"/>
          <a:stretch/>
        </p:blipFill>
        <p:spPr>
          <a:xfrm>
            <a:off x="1335240" y="1719360"/>
            <a:ext cx="6649920" cy="4809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-79200" y="-103320"/>
            <a:ext cx="8600760" cy="1919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Мировоззренческой основой экспрессионизма стал индивидуалистический протест против уродливого мира, все большее отчуждение человека от мира, чувства бесприютности, крушения, распада тех начал, на которых, казалось, так прочно покоилась европейская культу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Экспрессионистам свойственны тяготение к мистике и пессимиз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Художники воспринимали творчество как способ выражения эмоц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Содержимое 4" descr="Рисунок1.jpg"/>
          <p:cNvPicPr/>
          <p:nvPr/>
        </p:nvPicPr>
        <p:blipFill>
          <a:blip r:embed="rId2"/>
          <a:stretch/>
        </p:blipFill>
        <p:spPr>
          <a:xfrm>
            <a:off x="4879800" y="1722600"/>
            <a:ext cx="35751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1528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Отказ от иллюзорного простран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Стремление к плоскостной трактовке предметов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Деформация предметов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Любовь к резким красочным диссонанса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Особый колорит, заключающий в себе апокалипсический драматизм</a:t>
            </a:r>
            <a:r>
              <a:rPr b="1" i="1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401320" cy="2230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d1d3"/>
                </a:solidFill>
                <a:latin typeface="Arial"/>
                <a:ea typeface="Arial"/>
              </a:rPr>
              <a:t>Основатели – студенты архитектурного факультета города Дрездена: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a1f28"/>
                </a:solidFill>
                <a:latin typeface="Arial"/>
                <a:ea typeface="Arial"/>
              </a:rPr>
              <a:t>Эрнст Людвиг Кихнер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Фриц Блейл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Эрих Хеккель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Карл Шмидт-Ротлуфф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9d1d3"/>
                </a:solidFill>
                <a:latin typeface="Arial"/>
                <a:ea typeface="Arial"/>
              </a:rPr>
              <a:t>Выступили с идеей большей абсолютизации и максимального заострения цветовых и пространственных ощущений реальности. Предметный мир теперь воплощали предельно обобщенные и почти зашифрованные предметы-«знаки», окружающие человека. Полностью потеряли свое значение свет и светотень, так как их функцию перенял цвет, ставший духовным компонентом изображения. Остальные элементы композиции, такие, как линия контура и цветовое пятно, приобрели полную самостоятельность и стали столь лаконичны, что тяготели к перерождению друг в друга. Основными цветами не только у художников «Моста», но и вообще у всех экспрессионистов были насыщенные желтый, синий и красный, равномерно распределенные по всей картине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50004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9d1d3"/>
                </a:solidFill>
                <a:latin typeface="Century Gothic"/>
              </a:rPr>
              <a:t>                 </a:t>
            </a:r>
            <a:r>
              <a:rPr b="0" lang="ru-RU" sz="1200" spc="-1" strike="noStrike">
                <a:solidFill>
                  <a:srgbClr val="f9d1d3"/>
                </a:solidFill>
                <a:latin typeface="Arial"/>
                <a:ea typeface="Arial"/>
              </a:rPr>
              <a:t>В</a:t>
            </a: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1909 году В.Кандинским и А.Явленским было основано “Новое художественное объединение” в противовес отказавшемуся принимать произведения “авангардистских” художников “Мюнхенскому Сецессиону”. Вскоре В.Кандинский и Франц Марк основали альмонах “Синий всадник”. В одном из интервью 1930 года Кандинский рассказал навязчивому журналисту, почему возникло такое название: оба основателя любили синий цвет, кроме того, Марк любил лошадей, а Кандинский всадников.</a:t>
            </a:r>
            <a:br>
              <a:rPr sz="1200"/>
            </a:b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В конце 1911 года редакция альманаха открыла в одной из галерей выставку картин В. Кандинского, Ф.Марка, А. Макке и др., которая положила начало объединению “Синий всадник”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9d1d3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Для “Синего всадника”, в противоположность объединению “Мост”, было характерно тяготение к абстрактному искусству, к отказу от передачи видимого окружающего мира. Их творчество было призвано выражать чувства, раскрывая трансцендентную сущность веще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Содержимое 4" descr="Рисунок3.jpg"/>
          <p:cNvPicPr/>
          <p:nvPr/>
        </p:nvPicPr>
        <p:blipFill>
          <a:blip r:embed="rId2"/>
          <a:stretch/>
        </p:blipFill>
        <p:spPr>
          <a:xfrm>
            <a:off x="4799160" y="1722600"/>
            <a:ext cx="373680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7T13:07:03Z</dcterms:modified>
  <cp:revision>19</cp:revision>
  <dc:subject/>
  <dc:title>Что такое искусство?</dc:title>
</cp:coreProperties>
</file>